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3AD-9E42-43BF-BA86-A86A59DB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8F3-E7B6-4B7F-9BC2-F5E5FE71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B25-D719-4EBA-83B9-1C4F0938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231-3807-49CA-8032-000C6518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24E1-CC3E-4103-8E4E-95932919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8051-0E84-4F0F-B09A-53E8356A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6AB2-3C50-4F3F-B9AF-C4FE79E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32D-A9A6-416C-A04D-7EE57705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6D17-A2A1-4237-8808-728CEE15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1A9-D8EF-4602-948C-ABE60E0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02F4-6D0F-4168-A271-A90F852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EEC-A501-4AD8-96AB-9370D39A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1C32-1CB2-47A5-B949-B41AD7E0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7346-B9C4-4B9E-9B58-6653308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747-C578-4722-B6BC-89D20636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9DC9-54AC-4F82-9D2C-A88EDF5A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5B32-1590-462A-83E2-137BF49A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FCCA-A74B-4135-90AD-E33E14AE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5B28-DFFD-4619-91A7-8D04941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9685-BEEC-4155-A522-B970585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A57B-EA5F-479F-8A92-002820C5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E720-D1FC-402D-86E4-BA30DD26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BC4-B798-4A28-BC67-9E32DD4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D0A5-391F-4E23-8171-6877CF9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9A3D-24A6-4A96-9DB1-330FECB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2A98-A52C-4A0F-8B27-FDC6E37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9F04-024F-4410-AC80-883C31B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52DC-2247-4089-A216-56AD2D8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1D22-B9D2-4119-9F4F-052F7A0C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DCDC-BE00-4159-BDB2-E9B71FE4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A5A7-3363-4286-A627-9B49DA71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021D6-6553-4C9E-BBCF-F86E4F3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4977-82BE-49EE-8032-3B6431D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693-8D82-4E61-B2A7-71C046C1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517B-2C84-4DBC-B791-A37B8C6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8C49-083C-44BA-A80A-5B5165C7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3844-0D2D-4224-A9D9-FECA9256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B562-7F08-44E2-BF8A-F657B71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B2CA-99C9-41D9-B46E-658EE69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B713-2787-4952-8433-6EAC472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C85FD-C5DD-435B-A7B0-DB8AB1BA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50CF-E3BD-46A9-843F-500F2183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B6B1-B7DE-494E-BF2E-0990344F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49D7D-1C24-41C6-9877-50C1F3F5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262-7827-4CAA-8388-2C5F33C3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C4859-B4C1-4ACE-B205-612597D5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6887-36DE-4D23-9250-E6C6363A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8856C-7809-4A34-A301-AE30345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E880B-4BD6-4DE5-A9AC-CEF7B54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A1B1-5EED-49AD-B865-81FC177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ECE0-6F78-4DF1-84C2-923126CF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195F-9455-4300-B0B8-6B35DF2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F3B2-EEA2-4D9C-A5EE-C8D4508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B1FD1-5291-4D5C-B534-AFFB8335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C028-36C8-4D3E-8CA0-EC01FF57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B00-33D2-4D3A-9D3E-22EBDC8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D9E5-79F8-443E-8E55-1DA7E3E0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6194-52D9-4FEF-A3C5-AE324D99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C6F54-66C2-4EA3-AD9F-001A3DB0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3376-0853-4549-8FF9-E5D0E7D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9C6E-1ECF-4BAB-9D10-D508AD42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9819-6448-4438-9E93-AE891E4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40BB-B547-483E-8579-037C61FB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0061-7A08-4EF3-8FB4-96C0FB6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9C2EF-4412-4CAC-B6B7-6143213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52B5-F3B6-4BDF-B6E7-227760B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20-8E53-45DB-97FC-4335FB2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5FD1-7A27-43B4-9C31-E1160412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9745-F9AD-4109-A9AC-69E86222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FE0D9-04B4-473A-A7B0-A63FA432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0732-59B0-4218-8BB3-F482FD44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1C62-21D5-4ED9-8D9A-F00321E8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FF8A-04E0-48BD-90B5-ED2FCB8D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BED7-6A65-4875-87E7-5AFEFA4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54E8-47E2-4D87-A241-D0FA890F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FCE9-6C57-4CC2-B5BE-3FAC3D9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8D884-9E3C-41AD-8C83-DBF0CA6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C3C-1B44-4604-9D17-4CE0E26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C9421-8DD8-459F-A63E-AA1AFED4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22931-2F34-4066-9470-4801D5C5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8AF41-79D2-4C15-9287-A8D87CCA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60636-3311-4B1C-B560-807487FE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58E8A-8307-4930-A88E-AA88709C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B9B-62AD-4FF7-B375-0B8FE6A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DE1-39DD-4A87-B9AA-B7149D7AD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AAE-FC78-4BDE-B365-86D959856E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AFEA-A5DF-4A8E-B76B-E89C9AE8B8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3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9F6-8A6C-4DBF-9A52-16B852D35CC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1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3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C37-E63D-41EA-99BD-1A2647C1476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E542-4C2F-44D3-BF24-6C1BD4310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2E53-898C-41F5-B41A-931EAE8EC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Утепление двигателя автомобиля –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это не только его комфортный пуск 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rcRect l="0" t="0" r="3140" b="13348"/>
          <a:stretch/>
        </p:blipFill>
        <p:spPr>
          <a:xfrm>
            <a:off x="324000" y="2565360"/>
            <a:ext cx="60483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Monotype Corsiva"/>
              </a:rPr>
              <a:t>Карбюраторные двига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969920"/>
                <a:gridCol w="1463040"/>
                <a:gridCol w="1694160"/>
                <a:gridCol w="1316520"/>
                <a:gridCol w="1249200"/>
              </a:tblGrid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втомоби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ремя разогр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теп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огр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onda CR-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corol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вод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Mark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ея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З 2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Town 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Car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ш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Nis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Car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ермоф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4284720" y="2349360"/>
            <a:ext cx="1655640" cy="367200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08720" y="2349360"/>
            <a:ext cx="1224000" cy="367200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492360" y="1628640"/>
            <a:ext cx="1656000" cy="3762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изельные двига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851120"/>
                <a:gridCol w="1276200"/>
                <a:gridCol w="1646280"/>
                <a:gridCol w="1217880"/>
                <a:gridCol w="1701720"/>
              </a:tblGrid>
              <a:tr h="91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арка автомоби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ремя разогр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теп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ремя разогр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Su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ермоф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P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issanTi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itsubisi padg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й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yota P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вод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3924360" y="2421000"/>
            <a:ext cx="1655640" cy="367200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2349360"/>
            <a:ext cx="1655640" cy="374364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Таким образом, утепление двигателя автомобиля это не только его комфортный пуск,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но и уменьшение потребления топлива во время разогрева, а следовательно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уменьшение количества выброса парниковых газов и многих других вредных веществ в атмосфер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жем ли мы уменьшить выбросы парниковых газов, если будем следить за утеплением двигателя и его техническим состояни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744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ff6600"/>
                </a:solidFill>
                <a:latin typeface="Times New Roman"/>
              </a:rPr>
              <a:t>Парниковыми</a:t>
            </a: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 называются газы, которые загрязняют атмосферу, вызывая парниковый эффек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повышение температуры земной атмосферы за счет задержки теплового излучения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203640" y="4508640"/>
            <a:ext cx="261612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50920" y="333360"/>
            <a:ext cx="8424720" cy="6253200"/>
            <a:chOff x="250920" y="333360"/>
            <a:chExt cx="8424720" cy="6253200"/>
          </a:xfrm>
        </p:grpSpPr>
        <p:sp>
          <p:nvSpPr>
            <p:cNvPr id="577" name=""/>
            <p:cNvSpPr/>
            <p:nvPr/>
          </p:nvSpPr>
          <p:spPr>
            <a:xfrm>
              <a:off x="3059280" y="2349360"/>
              <a:ext cx="2736720" cy="237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76720" y="2924280"/>
              <a:ext cx="23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арниковый эффект созда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84720" y="1341000"/>
              <a:ext cx="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48000" y="333360"/>
              <a:ext cx="19447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Углекислый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40360" y="350028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36000" y="3141720"/>
              <a:ext cx="1439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Мет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56000" y="486900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1403280" y="2492280"/>
              <a:ext cx="144144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2360" y="5589720"/>
              <a:ext cx="180036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Оксиды аз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0920" y="1916280"/>
              <a:ext cx="971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Оз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508720" y="1844640"/>
              <a:ext cx="93492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0360" y="765000"/>
              <a:ext cx="24480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Угарный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050560" y="4292640"/>
              <a:ext cx="1079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00000" y="494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Фрео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8720" y="4365720"/>
              <a:ext cx="93492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84720" y="5229360"/>
              <a:ext cx="2303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Углеводо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049720" cy="35384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3635280" y="278136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брос любого из этих веществ можно рассчитать по формул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ik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р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k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пр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+М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 ik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1+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xx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xx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1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rcRect l="0" t="0" r="924" b="33988"/>
          <a:stretch/>
        </p:blipFill>
        <p:spPr>
          <a:xfrm>
            <a:off x="3708360" y="189000"/>
            <a:ext cx="4824360" cy="2160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3348000" y="4292640"/>
            <a:ext cx="86364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20000" y="4221000"/>
            <a:ext cx="86364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кологический ущерб от выбросов рассчитываем по формул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rcRect l="0" t="0" r="924" b="33988"/>
          <a:stretch/>
        </p:blipFill>
        <p:spPr>
          <a:xfrm>
            <a:off x="3708360" y="189000"/>
            <a:ext cx="4824360" cy="21603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4356000" y="4365720"/>
            <a:ext cx="122400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403280" y="4653000"/>
          <a:ext cx="568800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653000"/>
                    <a:ext cx="5688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-896" t="14729" r="-479" b="18898"/>
          <a:stretch/>
        </p:blipFill>
        <p:spPr>
          <a:xfrm>
            <a:off x="0" y="-324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755640" y="2060640"/>
            <a:ext cx="1332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4360" y="1484280"/>
          <a:ext cx="7519680" cy="3865680"/>
        </p:xfrm>
        <a:graphic>
          <a:graphicData uri="http://schemas.openxmlformats.org/drawingml/2006/table">
            <a:tbl>
              <a:tblPr/>
              <a:tblGrid>
                <a:gridCol w="1555560"/>
                <a:gridCol w="1995480"/>
                <a:gridCol w="2311560"/>
                <a:gridCol w="165708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компонента, об. Доли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бюраторные ДВ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зельные ДВ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(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ы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16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 – 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 –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 – 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 – 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 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 – 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-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-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1-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02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оксич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ксич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0" y="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За ночь с целью разогрева двигатель запускают при помощи сигнализации до 4-х раз длительностью до 15 минут. Суммарно за это время сгорает около 2-х литров бензина, а это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492360" y="549360"/>
            <a:ext cx="5183280" cy="84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считаем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опоста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1:35:25Z</dcterms:created>
  <dc:creator>1</dc:creator>
  <dc:description/>
  <dc:language>en-US</dc:language>
  <cp:lastModifiedBy>1</cp:lastModifiedBy>
  <dcterms:modified xsi:type="dcterms:W3CDTF">2009-12-28T14:04:34Z</dcterms:modified>
  <cp:revision>6</cp:revision>
  <dc:subject/>
  <dc:title>Утепление двигателя автомобиля –  это не только его комфортный пуск ….</dc:title>
</cp:coreProperties>
</file>